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B2A-F16C-4268-A454-B37E0023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12D-46D1-47C9-B741-A026A768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F29-487C-4637-8438-1030099E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5A0-4FFF-4E2E-8118-3C8DF2C1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6F65F-97C3-43F7-AD92-9A26FDBC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0C94F-847A-4766-92FB-16877A23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EDDCB-21D0-4EBC-99CC-99485F25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B3C1A-45A0-4277-BD13-80F986CA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F4B03-8B4C-4C9B-8CF6-3001AFBB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6CEEA-0FF9-4642-8DAD-E509375C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42D1B-63FF-4234-9D75-05716999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BFF-3F0D-40D3-8D9F-946A6809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661B5-3220-486C-B5A6-7334DDE1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3A58A-D49A-4E4A-BDB6-8FED0282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9A326-99AA-40E8-8B2A-D3EC3452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38C98-5D15-4A9F-A955-1657DB60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CEA23-680F-4D7B-B4D4-DAB31CD0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E34-0B84-4DD9-9AB6-01F7AEEC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7335-49D8-4E2F-BB08-AE141189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B1B-2A1A-4735-987B-6BEB27AB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707-FBDC-415E-8E3D-6429A2AB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B93-94EE-4D71-A5BC-B2381683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6C6-13C2-4757-8B98-56E23216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198-188A-47C6-BF8D-EDD8B517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EE15-C195-4C2E-AEF0-99055B0255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43964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D3FA-7F91-4C17-84EF-6BD841B599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ccaa00"/>
                </a:solidFill>
                <a:latin typeface="Arial"/>
              </a:rPr>
              <a:t>KlickDichSchlau-Tours Angebot der Woche</a:t>
            </a:r>
            <a:endParaRPr b="0" lang="en-US" sz="4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n Wochenende in W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262600">
            <a:off x="4966920" y="4076640"/>
            <a:ext cx="4176720" cy="2016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nderangebo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Wien-Wochenend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Anreis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zu Fu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oder per Anhal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Übernachtung im Tausend-Sterne Hotel (unter freiem Himm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Stadtrundfahrt mit der Wiener U-Ba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Das Unternehmen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" y="1600200"/>
            <a:ext cx="8228880" cy="4494600"/>
            <a:chOff x="457200" y="1600200"/>
            <a:chExt cx="8228880" cy="4494600"/>
          </a:xfrm>
        </p:grpSpPr>
        <p:cxnSp>
          <p:nvCxnSpPr>
            <p:cNvPr id="130" name="_s24592"/>
            <p:cNvCxnSpPr>
              <a:stCxn id="131" idx="0"/>
              <a:endCxn id="132" idx="2"/>
            </p:cNvCxnSpPr>
            <p:nvPr/>
          </p:nvCxnSpPr>
          <p:spPr>
            <a:xfrm flipV="1" rot="16200000">
              <a:off x="5573880" y="2405880"/>
              <a:ext cx="875520" cy="2880720"/>
            </a:xfrm>
            <a:prstGeom prst="bentConnector3">
              <a:avLst>
                <a:gd name="adj1" fmla="val 13122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3" name="_s24591"/>
            <p:cNvCxnSpPr>
              <a:stCxn id="134" idx="0"/>
              <a:endCxn id="132" idx="2"/>
            </p:cNvCxnSpPr>
            <p:nvPr/>
          </p:nvCxnSpPr>
          <p:spPr>
            <a:xfrm flipV="1">
              <a:off x="4571640" y="3408840"/>
              <a:ext cx="3600" cy="875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5" name="_s24590"/>
            <p:cNvCxnSpPr>
              <a:stCxn id="136" idx="0"/>
              <a:endCxn id="132" idx="2"/>
            </p:cNvCxnSpPr>
            <p:nvPr/>
          </p:nvCxnSpPr>
          <p:spPr>
            <a:xfrm flipH="1" flipV="1" rot="5400000">
              <a:off x="2693520" y="2406240"/>
              <a:ext cx="875520" cy="2880720"/>
            </a:xfrm>
            <a:prstGeom prst="bentConnector3">
              <a:avLst>
                <a:gd name="adj1" fmla="val 13122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32" name="_s24586"/>
            <p:cNvSpPr/>
            <p:nvPr/>
          </p:nvSpPr>
          <p:spPr>
            <a:xfrm>
              <a:off x="3337200" y="16002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ffffff"/>
                  </a:solidFill>
                  <a:latin typeface="Arial"/>
                </a:rPr>
                <a:t>KlickDichSchlau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ffffff"/>
                  </a:solidFill>
                  <a:latin typeface="Arial"/>
                </a:rPr>
                <a:t>Tour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24587"/>
            <p:cNvSpPr/>
            <p:nvPr/>
          </p:nvSpPr>
          <p:spPr>
            <a:xfrm>
              <a:off x="45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Bus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24588"/>
            <p:cNvSpPr/>
            <p:nvPr/>
          </p:nvSpPr>
          <p:spPr>
            <a:xfrm>
              <a:off x="333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Schiffs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24589"/>
            <p:cNvSpPr/>
            <p:nvPr/>
          </p:nvSpPr>
          <p:spPr>
            <a:xfrm>
              <a:off x="621756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Flug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Bus-Flott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Voll klimatisiert (es zieht überall hine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Top-aktuelles Retro-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96920" y="1600200"/>
            <a:ext cx="695016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 Schiff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sink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tungsb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448080" y="1844640"/>
            <a:ext cx="5695920" cy="42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Flugzeug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werden je nach Grösse der Reisegruppe aus Einzelteilen zusammengesetz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26539" r="0" b="0"/>
          <a:stretch/>
        </p:blipFill>
        <p:spPr>
          <a:xfrm>
            <a:off x="1979640" y="2924280"/>
            <a:ext cx="532764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Umsätze in € 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628640"/>
          <a:ext cx="82296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29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5:16:58Z</dcterms:created>
  <dc:creator>Oliver Mochmann</dc:creator>
  <dc:description/>
  <dc:language>en-US</dc:language>
  <cp:lastModifiedBy>Administrator</cp:lastModifiedBy>
  <dcterms:modified xsi:type="dcterms:W3CDTF">2011-06-06T06:45:16Z</dcterms:modified>
  <cp:revision>21</cp:revision>
  <dc:subject/>
  <dc:title>Folie 1</dc:title>
</cp:coreProperties>
</file>